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png" ContentType="image/png"/>
  <Override PartName="/ppt/media/image9.gif" ContentType="image/gif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29E-DF9B-493E-AFC9-B36C2D4A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CD4A-D73A-46B1-B34B-77AEC504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6FE4-9974-4C4B-8430-9CE9FDCA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909-3026-4259-AA75-63817514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CCA7-D83D-4691-8AC7-6C1D9979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CA56-4816-4B07-87B7-198035B9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A5EB-A745-4720-AB70-927B8F38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EC93-B90A-42B3-9C99-078A35F5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00B7-FAC8-44CC-884B-06B370ED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72BB-B3EE-4037-A308-B8600D1B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E010-1532-4948-A2A9-9E553D06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AA9F-FECD-4158-A9BE-CBF656A6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AD8A-E3DC-4D38-ABCB-BA48201B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B18F-CC1A-4C8A-B2EC-B2DD3542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92FF-7116-426E-85D9-550A6E83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77C4-4C14-48C9-B790-3393D717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802D-5EBF-4492-B144-15A2519C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44D-85A6-42DB-B393-025BC950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0FC-6DF1-4555-B529-5DEDD206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A777-E2B1-4E53-B410-442A327B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001-B154-4129-9A90-58DDFE18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F84E-28E6-47CA-9E9D-442FAB85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B9E-20CB-4863-9C87-FEAF79B6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060-0E7B-4673-B646-A863B72E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9985-CBF5-42F0-AE77-61E640A6FE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39F6-3738-459F-AA1A-F14225E5B3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ell Membrane: Structure and Func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057400" y="2532240"/>
            <a:ext cx="6248520" cy="46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8.11  Osmosis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0880" y="392040"/>
            <a:ext cx="842040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8.12  The water balance of living cells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7680" y="838080"/>
            <a:ext cx="889632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smo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one-celled organisms have a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contractile vacuol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hat pumps water out of a cell (Paramecium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plants, as water goes into the cell, it builds up pressure that pushes against cell wall.  This is called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turgor pressur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tractile Vacuo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ssive Transpo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ENERGY NEEDED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s the movement of small molecules in and out of a cel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lecules go from greater to lesser (WITH- concentration gradient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s: amino acids, fatty acids, glycerol,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simpl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sugars (glucos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ssive Transpo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637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tive Transpo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ERGY NEEDED!-word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‘pump’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is used to get charged or big molecules across membra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lecules go from lesser to greater (AGAINST concentration gradient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is when large molecules are pulled through the cell membrane by the use of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o not fully know how it work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3454560" y="992160"/>
            <a:ext cx="2127240" cy="5099040"/>
            <a:chOff x="3454560" y="992160"/>
            <a:chExt cx="2127240" cy="509904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3454560" y="1177920"/>
              <a:ext cx="1925640" cy="49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488120" y="992160"/>
              <a:ext cx="10936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lecule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 carri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39760" y="3979800"/>
              <a:ext cx="12124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lecu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ing carri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33760" y="3311640"/>
              <a:ext cx="7462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04960" y="227160"/>
            <a:ext cx="510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gure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7-19 Activ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ndocytosis and Exocytosis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(ACTIVE TRANSPORT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. of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endocytosi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= process by  which cells take in large molecules large volumes from the outsid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ex. Pinocytosi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qui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) and phagocytosi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lid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. of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exocytosi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= process by which cells get rid of large molecules in the cel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hagocytosis: Engulf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s is when large molecules are surrounded and pulled into the cel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s: amoeba, white blood cells called phagocy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s is the same method used by white blood cells to trap bacteria in our bloo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6904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 or Ou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320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3200" indent="-313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some things that can pass through a window scre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320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3200" indent="-313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some things that cannot pass through a window screen? Why is it important to keep these things from moving through the scre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320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3200" indent="-313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 The cell is surrounded by a cell membrane, which regulates what enters and leaves the cell. Why is it important to regulate what moves into and out of a cel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2604960" y="227160"/>
            <a:ext cx="510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est Grab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hagocytosis: Engulf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567160" cy="464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1903320" cy="2190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08-19a-PhagocytosisPhoto.jpg"/>
          <p:cNvPicPr/>
          <p:nvPr/>
        </p:nvPicPr>
        <p:blipFill>
          <a:blip r:embed="rId3"/>
          <a:stretch/>
        </p:blipFill>
        <p:spPr>
          <a:xfrm>
            <a:off x="4343400" y="175248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230760" y="990720"/>
            <a:ext cx="8379360" cy="4031640"/>
            <a:chOff x="230760" y="990720"/>
            <a:chExt cx="8379360" cy="4031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717480" y="1267200"/>
              <a:ext cx="7892640" cy="375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42360" y="990720"/>
              <a:ext cx="10324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s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2680" y="3997440"/>
              <a:ext cx="146232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s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cytoplas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0760" y="2622960"/>
              <a:ext cx="11498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4520" y="2185200"/>
              <a:ext cx="925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87600" y="4309920"/>
              <a:ext cx="892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81280" y="4466880"/>
              <a:ext cx="1265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pid bilay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90840" y="1807920"/>
              <a:ext cx="14090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rbohyd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i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04960" y="227160"/>
            <a:ext cx="5162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12 The Structure of the Cel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ell Membra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unction = controls what enters the cell and what leaves the cel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de of a lipid bilay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s protei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s some carbohydrates, which help with ident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fluid (fluid mosaic model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ffu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. of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diffusio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= Spreading of molecules in a given spac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happen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Substances move from an area where there is more of them to an area  where there is less of th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ffusion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.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rmeabl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membrane that lets substances pass through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 membrane is selectively permeable, which means that it lets some things in but does not let other things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tances keep moving till there is about equal amounts of them on both sides of the membra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784680" y="1670040"/>
            <a:ext cx="2816280" cy="3747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59360" y="1990800"/>
            <a:ext cx="14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59360" y="4695840"/>
            <a:ext cx="14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60440" y="2994120"/>
            <a:ext cx="114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96920" y="1481040"/>
            <a:ext cx="983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89240" y="4554360"/>
            <a:ext cx="80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04960" y="227160"/>
            <a:ext cx="510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acilitated Dif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ctors that Affect Diffu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mounts of substances involv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mperat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ss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irr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speeds up the rate of diffu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smo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64785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. of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osmosi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= movement of water from greater to less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925040" cy="39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45:49Z</dcterms:created>
  <dc:creator>Theresa DeLaurentis</dc:creator>
  <dc:description/>
  <dc:language>en-US</dc:language>
  <cp:lastModifiedBy>Preferred Customer</cp:lastModifiedBy>
  <dcterms:modified xsi:type="dcterms:W3CDTF">2010-11-17T10:36:53Z</dcterms:modified>
  <cp:revision>17</cp:revision>
  <dc:subject/>
  <dc:title>Cell Membrane: Structure and Function</dc:title>
</cp:coreProperties>
</file>